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453-9182-4E61-A7F7-CFD6CA8B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86C-CF98-4592-A27E-8F65B00C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BC8-C9D0-4EF1-BA9D-263A19F3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D7A-DA6F-4855-8E52-7B3A23EC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694-CBA2-4ED9-A21F-1D69A09D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9E8-B7EA-426D-9AA3-016A8756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B04-66CC-4D81-86FF-458C6FFF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D03-EA8D-43F7-A5E5-A5930321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9B3-84FE-4EA6-B1ED-D77AE5F4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F5C-D229-4E12-BBFE-6A53BDDA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3F3-A269-4956-882F-AD75E462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05A-44BC-45CD-A1D0-8EF6B998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E501-C576-4CC1-BFF3-89070770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as Stoichi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You know the dri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balanced chemic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your giv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r units are consistent (i.e. convert to Kelvin, kP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ole ratios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1: Volume-to-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talytic converter in the exhaust system of a car uses oxygen (from the air) and a catalyst to convert poisonous carbon monoxide to carbon dioxide. If temperature and pressure remain constant, what volume of oxygen is required to react with 65.0 L of carbon monoxide produced during a road tri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3276720"/>
          <a:ext cx="5105520" cy="1538280"/>
        </p:xfrm>
        <a:graphic>
          <a:graphicData uri="http://schemas.openxmlformats.org/drawingml/2006/table">
            <a:tbl>
              <a:tblPr/>
              <a:tblGrid>
                <a:gridCol w="1371600"/>
                <a:gridCol w="2590920"/>
                <a:gridCol w="11430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= 65.0 L X 1 mol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32.5 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5486400" y="2590920"/>
            <a:ext cx="3505320" cy="1465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aw of Combining Volum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a constant T and P, volumes of gaseous reactants and products react in whole-number rat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5334120"/>
            <a:ext cx="609588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lume of oxygen required is 32.5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114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733920"/>
            <a:ext cx="2438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2: Mass-to-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volume of carbon dioxide is produced when 6.40 g of methane gas,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acts with excess oxygen? All gases are at 35.0˚C and 100.0 k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235240"/>
          <a:ext cx="8686800" cy="2081160"/>
        </p:xfrm>
        <a:graphic>
          <a:graphicData uri="http://schemas.openxmlformats.org/drawingml/2006/table">
            <a:tbl>
              <a:tblPr/>
              <a:tblGrid>
                <a:gridCol w="2209680"/>
                <a:gridCol w="1219320"/>
                <a:gridCol w="4114800"/>
                <a:gridCol w="11430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= 6.40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= 16.05 g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6.40 g X 1 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5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0.3988 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0.3988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1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0.3988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6934320" y="762120"/>
            <a:ext cx="121896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295280"/>
            <a:ext cx="2743200" cy="785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08.15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8.314 kPa·L/mol·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419720"/>
            <a:ext cx="541008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n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(0.3988 mol)(8.314 kPa·L·mo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308.15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0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 = 10.2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971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5105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79132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66688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666880"/>
            <a:ext cx="3200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419720"/>
            <a:ext cx="54864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3: Volume-to-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5791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ss of sodium azide, Na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required to produce the 67.0 L of nitrogen gas that is needed to fill a car’s airbag? Assume a temperature of 32˚C and a pressure pf 10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2235240"/>
          <a:ext cx="8610480" cy="4392720"/>
        </p:xfrm>
        <a:graphic>
          <a:graphicData uri="http://schemas.openxmlformats.org/drawingml/2006/table">
            <a:tbl>
              <a:tblPr/>
              <a:tblGrid>
                <a:gridCol w="3200400"/>
                <a:gridCol w="1143000"/>
                <a:gridCol w="42670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Na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(s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N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2.774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2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a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.849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a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= 65.02 g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= 1.849 mol X 65.02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= 120.22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 = 1.2 X 10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= 67.0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= n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            (105 kPa)(67.0 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314 kPa·L·mo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(305.15 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2.774 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6934320" y="762120"/>
            <a:ext cx="121896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1295280"/>
            <a:ext cx="2743200" cy="785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05.15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8.314 kPa·L/mol·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9718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39625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64832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952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3352680"/>
            <a:ext cx="41148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66688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962520"/>
            <a:ext cx="26668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0:17:00Z</dcterms:created>
  <dc:creator>Fiona Smith</dc:creator>
  <dc:description/>
  <dc:language>en-US</dc:language>
  <cp:lastModifiedBy>OCDSB User</cp:lastModifiedBy>
  <dcterms:modified xsi:type="dcterms:W3CDTF">2011-06-09T16:00:42Z</dcterms:modified>
  <cp:revision>6</cp:revision>
  <dc:subject/>
  <dc:title>Gas Stoichiometry</dc:title>
</cp:coreProperties>
</file>